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DDB7-EE9B-4E7E-A1C8-08419E13A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9452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DDB0-6580-4F8A-AA08-115914C6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9452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9452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1AC7-A9F4-442B-8B79-814661273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508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508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9452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9452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9452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6892-ACD1-4071-82B5-818DB73C0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45DCD-4F73-4F50-9821-205A81DF8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50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71F44-7DB1-45F2-9353-B9993D24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47D2-C3CD-483B-8EAE-A76769F2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5084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84C9-C0FF-4743-B3AF-0BA273EC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277D-5FB6-405F-B3C7-3668DBFE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085760"/>
            <a:ext cx="822960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9953F-6EC3-4F0B-B94C-6F7535F6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5084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39452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8A9D1-B725-48CC-A6F1-3F8C09D1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50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0B85-26A8-49CA-9C8F-0097E99E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39452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FF05-E449-4497-AE18-EB507644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39452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DE28-2CFE-48DB-A6B6-2EFBAA5C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39452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A073-E33E-4FDC-B7AD-54FA8F97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39452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39452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D99C-CB10-4EB1-A8F4-0F77844FF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508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508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39452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39452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39452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EC00-0CA6-4AAE-BC31-C8E818A54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0CE1-C85F-463D-961C-4055766E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5084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A484-3939-493B-9ADF-E9070741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9B59-B1B6-4A58-BBCC-0D593B94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085760"/>
            <a:ext cx="822960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889E-77D0-4907-ABDB-3FA2A39F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5084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9452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6E99-8D47-4692-9ABF-C40D706A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9452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5E8D-7CEC-44D3-85AE-63ABB904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9452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06B4-0507-4414-964F-F7C3AECC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50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550B-4A41-4365-B47A-1EA8281E090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AD93-840B-43C9-BA50-840208D92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50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54DE-8864-4D02-AEA5-6AA22157448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F292-BC82-4E5D-827E-51D605B64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6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83" name="Rectangle 7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0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Picture 23" descr="jaune"/>
            <p:cNvPicPr/>
            <p:nvPr/>
          </p:nvPicPr>
          <p:blipFill>
            <a:blip r:embed="rId2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Rectangle 12"/>
          <p:cNvSpPr/>
          <p:nvPr/>
        </p:nvSpPr>
        <p:spPr>
          <a:xfrm>
            <a:off x="45720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3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300" spc="-1" strike="noStrike">
                <a:solidFill>
                  <a:srgbClr val="333399"/>
                </a:solidFill>
                <a:latin typeface="Garamond"/>
              </a:rPr>
              <a:t>Напредък в изпълнението на ОП РЧР за 2012 г.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3399"/>
                </a:solidFill>
                <a:latin typeface="Garamond"/>
              </a:rPr>
              <a:t>Заседание на Съвета за координация при управление на средствата от Е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3399"/>
                </a:solidFill>
                <a:latin typeface="Garamond"/>
              </a:rPr>
              <a:t>(СКУСЕ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Garamond"/>
              </a:rPr>
              <a:t>София, 16 май 2013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9" descr="logo_bg[1]"/>
          <p:cNvPicPr/>
          <p:nvPr/>
        </p:nvPicPr>
        <p:blipFill>
          <a:blip r:embed="rId3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Object 11"/>
          <p:cNvGraphicFramePr/>
          <p:nvPr/>
        </p:nvGraphicFramePr>
        <p:xfrm>
          <a:off x="304920" y="1600200"/>
          <a:ext cx="8305560" cy="4867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600200"/>
                    <a:ext cx="8305560" cy="48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9EFD-09B1-43E7-A2F5-3C55D8CD2902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ФИНАНСОВ НАПРЕДЪК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3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17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17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Object 11"/>
          <p:cNvGraphicFramePr/>
          <p:nvPr/>
        </p:nvGraphicFramePr>
        <p:xfrm>
          <a:off x="380880" y="1371600"/>
          <a:ext cx="8001000" cy="4979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371600"/>
                    <a:ext cx="8001000" cy="49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76F3-ED86-47DB-B734-203D68AB806F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3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остигнати резултати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18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Object 13"/>
          <p:cNvGraphicFramePr/>
          <p:nvPr/>
        </p:nvGraphicFramePr>
        <p:xfrm>
          <a:off x="0" y="1676520"/>
          <a:ext cx="8881920" cy="4927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8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76520"/>
                    <a:ext cx="8881920" cy="49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804E-50A5-4BC5-B532-776F5C2EB4BF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ФИНАНСОВ НАПРЕДЪК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4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19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Object 13"/>
          <p:cNvGraphicFramePr/>
          <p:nvPr/>
        </p:nvGraphicFramePr>
        <p:xfrm>
          <a:off x="304920" y="1143000"/>
          <a:ext cx="8515080" cy="5249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8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143000"/>
                    <a:ext cx="8515080" cy="524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87F0-F303-497D-9755-30D85F4620F8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4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остигнати резултати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20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20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Object 11"/>
          <p:cNvGraphicFramePr/>
          <p:nvPr/>
        </p:nvGraphicFramePr>
        <p:xfrm>
          <a:off x="152280" y="1523880"/>
          <a:ext cx="8610840" cy="5035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3880"/>
                    <a:ext cx="8610840" cy="50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07B9-DE04-4C6E-A4FF-B91A7FE3DDFC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ФИНАНСОВ НАПРЕДЪК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5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21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Object 11"/>
          <p:cNvGraphicFramePr/>
          <p:nvPr/>
        </p:nvGraphicFramePr>
        <p:xfrm>
          <a:off x="228600" y="1828800"/>
          <a:ext cx="8534520" cy="4724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828800"/>
                    <a:ext cx="8534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D944-DFAC-4DB7-A312-BC7931C08D3C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5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остигнати резултати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22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22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Object 11"/>
          <p:cNvGraphicFramePr/>
          <p:nvPr/>
        </p:nvGraphicFramePr>
        <p:xfrm>
          <a:off x="152280" y="1523880"/>
          <a:ext cx="8460000" cy="4913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3880"/>
                    <a:ext cx="8460000" cy="49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31BA-42AC-4ECB-8F24-430A68E24F6E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ФИНАНСОВ НАПРЕДЪК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6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23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Object 11"/>
          <p:cNvGraphicFramePr/>
          <p:nvPr/>
        </p:nvGraphicFramePr>
        <p:xfrm>
          <a:off x="0" y="1447920"/>
          <a:ext cx="8686800" cy="5192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47920"/>
                    <a:ext cx="8686800" cy="51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86F0-796D-4C36-BFE3-F72E709C87D4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ФИНАНСОВ НАПРЕДЪК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7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24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24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Object 11"/>
          <p:cNvGraphicFramePr/>
          <p:nvPr/>
        </p:nvGraphicFramePr>
        <p:xfrm>
          <a:off x="0" y="1581120"/>
          <a:ext cx="8991720" cy="4971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81120"/>
                    <a:ext cx="899172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2177-12E2-42EA-8226-9FAE242C24DF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3399"/>
                </a:solidFill>
                <a:latin typeface="Garamond"/>
              </a:rPr>
              <a:t>ПРИОРИТЕТНА ОС </a:t>
            </a: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7</a:t>
            </a:r>
            <a:br>
              <a:rPr sz="2800"/>
            </a:br>
            <a:r>
              <a:rPr b="1" lang="bg-BG" sz="2800" spc="-1" strike="noStrike">
                <a:solidFill>
                  <a:srgbClr val="333399"/>
                </a:solidFill>
                <a:latin typeface="Garamond"/>
              </a:rPr>
              <a:t>постигнати резултати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25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25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Object 11"/>
          <p:cNvGraphicFramePr/>
          <p:nvPr/>
        </p:nvGraphicFramePr>
        <p:xfrm>
          <a:off x="0" y="1789200"/>
          <a:ext cx="8686800" cy="5068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5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89200"/>
                    <a:ext cx="8686800" cy="50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5F89-9DE2-4D18-BD93-60F80ECC2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ФИНАНСОВ НАПРЕДЪК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8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26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26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E295-F86A-4DCE-8182-EF5CBDBD6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aramond"/>
              </a:rPr>
              <a:t>ПРОГРАМИРАНЕ НА ОП РЧР</a:t>
            </a: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91" name="Group 4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92" name="Rectangle 5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6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8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1.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23" descr="jaune"/>
            <p:cNvPicPr/>
            <p:nvPr/>
          </p:nvPicPr>
          <p:blipFill>
            <a:blip r:embed="rId2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96" name=""/>
          <p:cNvGraphicFramePr/>
          <p:nvPr/>
        </p:nvGraphicFramePr>
        <p:xfrm>
          <a:off x="457200" y="1951200"/>
          <a:ext cx="8229600" cy="4144320"/>
        </p:xfrm>
        <a:graphic>
          <a:graphicData uri="http://schemas.openxmlformats.org/drawingml/2006/table">
            <a:tbl>
              <a:tblPr/>
              <a:tblGrid>
                <a:gridCol w="5943600"/>
                <a:gridCol w="228600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Бюджет на ОП РЧ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333399"/>
                      </a:solidFill>
                    </a:lnR>
                    <a:lnT>
                      <a:noFill/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 374 млн.л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5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ограмирани сред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Общ разм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оцент от бюджета на ОП РЧ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 3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4</a:t>
                      </a: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млн.л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0</a:t>
                      </a: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>
                      <a:noFill/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07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тартирали процедури за предоставяне на безвъзмездна финансова помощ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Общ бр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Общ бюдж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 923 млн.л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>
                      <a:noFill/>
                    </a:lnR>
                    <a:lnT w="1368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7" name="Picture 19" descr="logo_bg[1]"/>
          <p:cNvPicPr/>
          <p:nvPr/>
        </p:nvPicPr>
        <p:blipFill>
          <a:blip r:embed="rId3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1480-78E0-44D2-B772-57BCD1A67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333399"/>
                </a:solidFill>
                <a:latin typeface="Garamond"/>
              </a:rPr>
              <a:t>ДЕЙНОСТИ ПО КОМУНИКАЦИЯ И ПУБЛИЧНОСТ ПРЕЗ 201</a:t>
            </a:r>
            <a:r>
              <a:rPr b="1" lang="en-US" sz="3200" spc="-1" strike="noStrike">
                <a:solidFill>
                  <a:srgbClr val="333399"/>
                </a:solidFill>
                <a:latin typeface="Garamond"/>
              </a:rPr>
              <a:t>2</a:t>
            </a:r>
            <a:r>
              <a:rPr b="1" lang="bg-BG" sz="3200" spc="-1" strike="noStrike">
                <a:solidFill>
                  <a:srgbClr val="333399"/>
                </a:solidFill>
                <a:latin typeface="Garamond"/>
              </a:rPr>
              <a:t> г.</a:t>
            </a: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3</a:t>
            </a: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719</a:t>
            </a: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 рекламни радио и телевизионни клипа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 рубрики и репортажи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7</a:t>
            </a: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 документални филма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Близо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 60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0</a:t>
            </a: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 публикации в интернет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4 мащабни информационни събития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Информационни дни по 21 схеми и обучения по още 5 схеми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Годишно информационно събитие за популяризиране на ОП РЧР – май 2012 г., проведено във всички областни градове. Обща продължителност два месеца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70" name="Group 4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271" name="Rectangle 5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6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8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4" name="Picture 23" descr="jaune"/>
            <p:cNvPicPr/>
            <p:nvPr/>
          </p:nvPicPr>
          <p:blipFill>
            <a:blip r:embed="rId2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5" name="Picture 19" descr="logo_bg[1]"/>
          <p:cNvPicPr/>
          <p:nvPr/>
        </p:nvPicPr>
        <p:blipFill>
          <a:blip r:embed="rId3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5F78-080B-45BC-BF7B-8B443DEE1D29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333399"/>
                </a:solidFill>
                <a:latin typeface="Garamond"/>
              </a:rPr>
              <a:t>ФИНАНСОВ НАПРЕДЪК ПО ОП РЧР</a:t>
            </a: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100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101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1.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23" descr="jaune"/>
            <p:cNvPicPr/>
            <p:nvPr/>
          </p:nvPicPr>
          <p:blipFill>
            <a:blip r:embed="rId2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05" name=""/>
          <p:cNvGraphicFramePr/>
          <p:nvPr/>
        </p:nvGraphicFramePr>
        <p:xfrm>
          <a:off x="457200" y="1951200"/>
          <a:ext cx="8001000" cy="3701880"/>
        </p:xfrm>
        <a:graphic>
          <a:graphicData uri="http://schemas.openxmlformats.org/drawingml/2006/table">
            <a:tbl>
              <a:tblPr/>
              <a:tblGrid>
                <a:gridCol w="4013280"/>
                <a:gridCol w="2373120"/>
                <a:gridCol w="161460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Договорени сред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333399"/>
                      </a:solidFill>
                    </a:lnR>
                    <a:lnT>
                      <a:noFill/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 027 млн.л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>
                      <a:noFill/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Разплатени сред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52 млн.л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1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>
                      <a:noFill/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Верифицирани разход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5 млн.л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</a:t>
                      </a: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.</a:t>
                      </a: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>
                      <a:noFill/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ертифицирани разход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11 млн.л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1.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>
                      <a:noFill/>
                    </a:lnR>
                    <a:lnT w="1368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Picture 19" descr="logo_bg[1]"/>
          <p:cNvPicPr/>
          <p:nvPr/>
        </p:nvPicPr>
        <p:blipFill>
          <a:blip r:embed="rId3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31"/>
          <p:cNvGraphicFramePr/>
          <p:nvPr/>
        </p:nvGraphicFramePr>
        <p:xfrm>
          <a:off x="228600" y="1981080"/>
          <a:ext cx="8686800" cy="4419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8" name="Object 3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981080"/>
                    <a:ext cx="86868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9F61-06F9-4383-A49D-F8956F6E9927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aramond"/>
              </a:rPr>
              <a:t>ФИНАНСОВ НАПРЕДЪК ПО ОП РЧР</a:t>
            </a: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11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Object 14"/>
          <p:cNvGraphicFramePr/>
          <p:nvPr/>
        </p:nvGraphicFramePr>
        <p:xfrm>
          <a:off x="228600" y="1600200"/>
          <a:ext cx="8763120" cy="510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8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600200"/>
                    <a:ext cx="87631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767C-18B2-44FF-9F3D-E30464FBA2CC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aramond"/>
              </a:rPr>
              <a:t>ФИНАНСОВ НАПРЕДЪК ПО ОП РЧР</a:t>
            </a: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12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12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Object 15"/>
          <p:cNvGraphicFramePr/>
          <p:nvPr/>
        </p:nvGraphicFramePr>
        <p:xfrm>
          <a:off x="152280" y="1523880"/>
          <a:ext cx="8612280" cy="5145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8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3880"/>
                    <a:ext cx="8612280" cy="51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6008-489E-4B4B-A0CF-DA081A6EE1C2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ФИНАНСОВ НАПРЕДЪК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1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13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13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Object 16"/>
          <p:cNvGraphicFramePr/>
          <p:nvPr/>
        </p:nvGraphicFramePr>
        <p:xfrm>
          <a:off x="41400" y="1214280"/>
          <a:ext cx="9024840" cy="4500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8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400" y="1214280"/>
                    <a:ext cx="9024840" cy="45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1342-D4E5-442D-975F-A36523496A72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1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остигнати резултати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14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14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Object 11"/>
          <p:cNvGraphicFramePr/>
          <p:nvPr/>
        </p:nvGraphicFramePr>
        <p:xfrm>
          <a:off x="228600" y="1523880"/>
          <a:ext cx="8686800" cy="5334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523880"/>
                    <a:ext cx="86868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9D80-A897-48AF-9AD1-447F62D9648E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ФИНАНСОВ НАПРЕДЪК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2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15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15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Object 11"/>
          <p:cNvGraphicFramePr/>
          <p:nvPr/>
        </p:nvGraphicFramePr>
        <p:xfrm>
          <a:off x="0" y="1371600"/>
          <a:ext cx="8915400" cy="4919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71600"/>
                    <a:ext cx="8915400" cy="49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638D-7833-4A6F-8067-72A414F2516A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2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остигнати резултати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16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16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Yanaki Yanakiev</dc:creator>
  <dc:description/>
  <dc:language>en-US</dc:language>
  <cp:lastModifiedBy>v.olshevski</cp:lastModifiedBy>
  <dcterms:modified xsi:type="dcterms:W3CDTF">2013-05-10T14:33:04Z</dcterms:modified>
  <cp:revision>30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